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BBD-7C51-4D2D-AE2C-A5EC0FFE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F77-3A27-48B5-A272-9F58E363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AC6-B0D0-4C41-AA13-E3B8CDEB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D6E-649A-4442-8322-55BA5D34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21A-8230-4756-B6A8-306EA96F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B61-9D17-4681-B929-5FEF1F41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1A8-0CC8-493B-94D4-17A38EDF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037-7864-4258-A893-AA974490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703-41C0-48F0-8115-8F1F7013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EC1-F83C-4E15-9D9D-AE8077F9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F0A-F644-43C3-8FB4-24EFD173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8CD-8BA3-4544-84D0-52790E8C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D73B-6D85-4028-9324-00EAC58F0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diós, Cord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poldo 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í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791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3733920"/>
            <a:ext cx="1817640" cy="102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80773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di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áfico: Clarín nació en Asturias, una provincia en la costa norte central de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guístico: Noten las diferencia en el habla popular de esta re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órico: En 1833, cuando murió Fernando VII, su hija heredó el poder; por ser mujer, el hermano de Fernando, Carlos, llegó al tro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18255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sataron tres guerras civiles conocidas como la guerras carlistas que resultaron en una época difícil para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1868, se comenzó a industrializarse el país, surgiendo una clase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indianos que se mencionan en el cuento eran los españoles que habían ido a Amé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146376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abemos la identidad de Cord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es son los dos elementos fuera de lugar en un lugar tan apacible como “el prao Somonte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Puedes describir la metonimia que el autor usa para referirse al ferrocarr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reaccionan los personajes del cuento ante estos elem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857160" cy="87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8097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es la vida del pr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la relación entre los dos hermanos y Cord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nos revela el autor la realidad social y los problemas económicos para los pobres en Españ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dos eventos cambian la vida idílica de los herm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6639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as cosi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Puedes apreciar el naturalismo y el realismo en este cuento? ¿De qué se tratan estas corrientes literari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uentra ejemplos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áf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min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de rit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28987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2:16:27Z</dcterms:created>
  <dc:creator>STORNA</dc:creator>
  <dc:description/>
  <dc:language>en-US</dc:language>
  <cp:lastModifiedBy>storna</cp:lastModifiedBy>
  <dcterms:modified xsi:type="dcterms:W3CDTF">2005-11-28T21:00:41Z</dcterms:modified>
  <cp:revision>4</cp:revision>
  <dc:subject/>
  <dc:title>Adiós, Cordera</dc:title>
</cp:coreProperties>
</file>